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EE4-1AB7-43A1-B9F3-F9193060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99D-29B2-4273-BF67-2E192995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E598-09C7-429E-857B-45AC1FFA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38A-A48B-4F67-9039-D2309564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9C0-FFA7-4430-A243-C1FBEFE4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8C2-80F3-41C8-B0D4-CDDE9C53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C3E-13C3-4F8F-9B8C-4E336418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7FE9-F3B1-4B3A-A1B9-D704218B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0758-37E9-4CC5-82D5-FC7921FF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0DA9-3E46-4DC7-BA49-01270DE8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CFA-0D0D-42E1-ABBB-231463CE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44D-D6D4-4F4B-9E69-605A8C8C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B1E0-2116-4E4A-A1EF-4A09EB2A0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206.191.60.52/resources/pdf/SAC2002-CW.pdf" TargetMode="External"/><Relationship Id="rId2" Type="http://schemas.openxmlformats.org/officeDocument/2006/relationships/hyperlink" Target="http://206.191.60.52/resources/pdf/SAC2002-CW.pdf" TargetMode="External"/><Relationship Id="rId3" Type="http://schemas.openxmlformats.org/officeDocument/2006/relationships/hyperlink" Target="http://206.191.60.52/resources/pdf/SAC2002-CW.pdf" TargetMode="External"/><Relationship Id="rId4" Type="http://schemas.openxmlformats.org/officeDocument/2006/relationships/hyperlink" Target="http://206.191.60.52/resources/pdf/SAC2002-CW.pdf" TargetMode="External"/><Relationship Id="rId5" Type="http://schemas.openxmlformats.org/officeDocument/2006/relationships/hyperlink" Target="http://206.191.60.52/resources/pdf/SAC2002-CW.pdf" TargetMode="External"/><Relationship Id="rId6" Type="http://schemas.openxmlformats.org/officeDocument/2006/relationships/hyperlink" Target="http://206.191.60.52/resources/pdf/SAC2002-CW.pdf" TargetMode="External"/><Relationship Id="rId7" Type="http://schemas.openxmlformats.org/officeDocument/2006/relationships/hyperlink" Target="http://www.trustedcomputinggroup.org/home/" TargetMode="External"/><Relationship Id="rId8" Type="http://schemas.openxmlformats.org/officeDocument/2006/relationships/hyperlink" Target="http://www.trustedcomputinggroup.org/home/" TargetMode="External"/><Relationship Id="rId9" Type="http://schemas.openxmlformats.org/officeDocument/2006/relationships/hyperlink" Target="http://www.trustedcomputinggroup.org/home/" TargetMode="External"/><Relationship Id="rId10" Type="http://schemas.openxmlformats.org/officeDocument/2006/relationships/hyperlink" Target="http://www.trustedcomputinggroup.org/home/" TargetMode="External"/><Relationship Id="rId11" Type="http://schemas.openxmlformats.org/officeDocument/2006/relationships/hyperlink" Target="http://www.trustedcomputinggroup.org/home/" TargetMode="External"/><Relationship Id="rId12" Type="http://schemas.openxmlformats.org/officeDocument/2006/relationships/hyperlink" Target="http://www.trustedcomputinggroup.org/home/" TargetMode="External"/><Relationship Id="rId13" Type="http://schemas.openxmlformats.org/officeDocument/2006/relationships/hyperlink" Target="http://www.trustedcomputinggroup.org/home/" TargetMode="External"/><Relationship Id="rId14" Type="http://schemas.openxmlformats.org/officeDocument/2006/relationships/hyperlink" Target="http://www.sdmi.org/" TargetMode="External"/><Relationship Id="rId15" Type="http://schemas.openxmlformats.org/officeDocument/2006/relationships/hyperlink" Target="http://www.sdmi.org/" TargetMode="External"/><Relationship Id="rId16" Type="http://schemas.openxmlformats.org/officeDocument/2006/relationships/hyperlink" Target="http://www.sdmi.org/" TargetMode="External"/><Relationship Id="rId17" Type="http://schemas.openxmlformats.org/officeDocument/2006/relationships/hyperlink" Target="http://www.sdmi.org/" TargetMode="External"/><Relationship Id="rId18" Type="http://schemas.openxmlformats.org/officeDocument/2006/relationships/hyperlink" Target="http://www.sdmi.org/" TargetMode="External"/><Relationship Id="rId19" Type="http://schemas.openxmlformats.org/officeDocument/2006/relationships/hyperlink" Target="http://www.sdmi.org/" TargetMode="External"/><Relationship Id="rId20" Type="http://schemas.openxmlformats.org/officeDocument/2006/relationships/hyperlink" Target="http://www.sdmi.org/" TargetMode="External"/><Relationship Id="rId21" Type="http://schemas.openxmlformats.org/officeDocument/2006/relationships/hyperlink" Target="http://www.sdmi.org/" TargetMode="External"/><Relationship Id="rId2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gital Rights Manag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plomová prá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r Š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8380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ARYKOVA UNIVERS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1219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kulta Informati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867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rno 0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5410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ttp://www.svenda.com/petr/mst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ávěrečné shrnu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povány technické aspekty D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dělení klienta dle stupně užití HW ochran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ferenční DRM archite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chrana spustitelného progra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avrženo a implementováno ochranné rozhra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mplementován SecureFW 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mplementován HWT (JavaCard, GXPPro-R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vrh protokolu SEA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mplementován WBACR AES generá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vrh a implementace algoritmu pro generování WBACR AES vstupníh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tupního kódování pro C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vrh robustní aktualizace klíče re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mplementována ukázková aplikace LightA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2860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ávěrečné shrnut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55308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gital Rights Managment, Petr Švenda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eratura, o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nblatt, B. Trippe, B. Mooney, S.: Digital Rights Management: Bussines and Technology. Indianapolis,  Hungry Minds, Inc., listopad 2001, ISBN 0-7645-4889-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2]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w, S., Eisen, P., Johnson, H., Oorschot, P.C.: White-Box Cryptography and an AES implementation. Cloakware Corporation, 2002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 dostupný na URL 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http://206.191.60.52/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resources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"/>
              </a:rPr>
              <a:t>pdf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"/>
              </a:rPr>
              <a:t>/SAC2002-CW.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"/>
              </a:rPr>
              <a:t>pdf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uben 20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Trusted Computing Group, 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http://www.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"/>
              </a:rPr>
              <a:t>trustedcomputinggroup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9"/>
              </a:rPr>
              <a:t>.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0"/>
              </a:rPr>
              <a:t>org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1"/>
              </a:rPr>
              <a:t>/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2"/>
              </a:rPr>
              <a:t>home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4] Menezes, A., Oorschot, P., Vanstone, S.: Handbook of Applied Cryptography, CRC Press Inc. 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5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Music Digital Initiative, Specification Overview, Dokument dostupný na URL 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4"/>
              </a:rPr>
              <a:t>http://www.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5"/>
              </a:rPr>
              <a:t>sdmi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6"/>
              </a:rPr>
              <a:t>.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7"/>
              </a:rPr>
              <a:t>org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8"/>
              </a:rPr>
              <a:t>/port_device_spec_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9"/>
              </a:rPr>
              <a:t>overview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0"/>
              </a:rPr>
              <a:t>.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1"/>
              </a:rPr>
              <a:t>htm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únor 20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2860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er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655308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gital Rights Managment, Petr Švenda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řehl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-78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gital Rights Managment (D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80120" indent="-78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ferenční DRM architektu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80120" indent="-78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chrana softwarového ag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80120" indent="-78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středí klienta dle použití ochranného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80120" indent="-78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chranné rozhran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1760" indent="-682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ptografic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čipová kar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1760" indent="-682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ACR A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1760" indent="-682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tokol SEA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1760" indent="-682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ML 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55308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gital Rights Managment, Petr Švenda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gital Rights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ráva práv k digitálním objektům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žnosti digitálního zprac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é obchodní mod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ízké počáteční nákla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stiky použit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blémy prosaz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vali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nad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o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gislativa vs. technické prostřed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655308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gital Rights Managment, Petr Švenda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2860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. Digital Rights Mana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. Referenční DRM architek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atový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icenční ser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ředí kli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R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RM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ftwarový ag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RMC + DRM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655308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gital Rights Managment, Petr Švenda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2860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. Referenční DRM architek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DRMRefArch" descr=""/>
          <p:cNvPicPr/>
          <p:nvPr/>
        </p:nvPicPr>
        <p:blipFill>
          <a:blip r:embed="rId1"/>
          <a:stretch/>
        </p:blipFill>
        <p:spPr>
          <a:xfrm>
            <a:off x="3962520" y="2209680"/>
            <a:ext cx="487656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. Ochrana softwarového age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ezpečné prostředí (vzhledem k chráněné informac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zavřený SW agent (interval uzavřenos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tick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ynamická inspe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íle útok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difikace kódu a dat, ovlivnění komunik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vržení identity klienta, hodnot systémových funkc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lasické techniky ochr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gistrační čísla, originální média, debuggery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2860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. Ochrana softwarového ag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655308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gital Rights Managment, Petr Švenda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kročilé techniky ochr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lient-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itlivé operace na straně server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utentizace klient vs.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C + kryptografická čipová kar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ardwarové výpočetní prostřed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martcards, SDM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5]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TC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ite-Box Attack Resistant AES (WBACR A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lementace šifrovací algoritmu AES pomocí předpočtených tabulek (pro daný klíč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olná proti statické i dynamické inspek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22860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. Ochrana softwarového ag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655308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gital Rights Managment, Petr Švenda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ient_HW!DRMR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4114800" cy="16779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V. Prostředí klienta dle použití ochranného hard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Nechráněné, čistě softwarov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ěžné P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Hardwarově chráněn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ní konzole, SDMI, T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mocná HW och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MC i DRM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uze DRMC (projek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uze uložení vybraných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655308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gital Rights Managment, Petr Švenda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2860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. Prostředí klienta dle použití ochranného hard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V. Ochranné rozhraní (SecureFW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zpečný běh části kódu na čipové kart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adné začleně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tualizace pomocí XML lic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zdálená sprá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ílen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íce algorit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íce SW agent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SafeFrameworkOverview" descr=""/>
          <p:cNvPicPr/>
          <p:nvPr/>
        </p:nvPicPr>
        <p:blipFill>
          <a:blip r:embed="rId1"/>
          <a:stretch/>
        </p:blipFill>
        <p:spPr>
          <a:xfrm>
            <a:off x="4648320" y="4191120"/>
            <a:ext cx="4190760" cy="2282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22860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. Ochranné rozhra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55308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gital Rights Managment, Petr Švenda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LightApp_safeAlgTab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248160" cy="4818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Ukázková aplikace LightA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22860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. Ochranné rozhra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655308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gital Rights Managment, Petr Švenda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5:41:35Z</dcterms:created>
  <dc:creator>Eskel</dc:creator>
  <dc:description/>
  <dc:language>en-US</dc:language>
  <cp:lastModifiedBy>Eskel</cp:lastModifiedBy>
  <dcterms:modified xsi:type="dcterms:W3CDTF">2004-08-27T13:14:07Z</dcterms:modified>
  <cp:revision>457</cp:revision>
  <dc:subject/>
  <dc:title>Digital Rights Managment</dc:title>
</cp:coreProperties>
</file>