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9365-7EDD-4B0C-AC10-FAF4DF020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3ADF-F146-4BAC-AA3F-BDF871D1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B9FF-E7AF-4EBA-BB9C-0E9776351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4F3D-BE02-4E6C-B2B8-5E0F522B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2373-3C85-4B63-BB03-551E8651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579A-34A4-4454-9EB3-2B8DB972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3C65-3F2F-4BD8-864E-A81C0705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BF60-423D-41AB-8145-13A750B8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D0C3-2BFB-40A0-9693-C00B95CA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9DF0-E095-4823-ABF3-3D374B1B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359C-7966-496F-976A-F53F2F3D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0C61-DC71-484B-81DD-1D4078C1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94B3-6692-4225-A628-E44A50B32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206.191.60.52/resources/pdf/SAC2002-CW.pdf" TargetMode="External"/><Relationship Id="rId2" Type="http://schemas.openxmlformats.org/officeDocument/2006/relationships/hyperlink" Target="http://206.191.60.52/resources/pdf/SAC2002-CW.pdf" TargetMode="External"/><Relationship Id="rId3" Type="http://schemas.openxmlformats.org/officeDocument/2006/relationships/hyperlink" Target="http://206.191.60.52/resources/pdf/SAC2002-CW.pdf" TargetMode="External"/><Relationship Id="rId4" Type="http://schemas.openxmlformats.org/officeDocument/2006/relationships/hyperlink" Target="http://206.191.60.52/resources/pdf/SAC2002-CW.pdf" TargetMode="External"/><Relationship Id="rId5" Type="http://schemas.openxmlformats.org/officeDocument/2006/relationships/hyperlink" Target="http://206.191.60.52/resources/pdf/SAC2002-CW.pdf" TargetMode="External"/><Relationship Id="rId6" Type="http://schemas.openxmlformats.org/officeDocument/2006/relationships/hyperlink" Target="http://206.191.60.52/resources/pdf/SAC2002-CW.pdf" TargetMode="External"/><Relationship Id="rId7" Type="http://schemas.openxmlformats.org/officeDocument/2006/relationships/hyperlink" Target="http://www.trustedcomputinggroup.org/home/" TargetMode="External"/><Relationship Id="rId8" Type="http://schemas.openxmlformats.org/officeDocument/2006/relationships/hyperlink" Target="http://www.trustedcomputinggroup.org/home/" TargetMode="External"/><Relationship Id="rId9" Type="http://schemas.openxmlformats.org/officeDocument/2006/relationships/hyperlink" Target="http://www.trustedcomputinggroup.org/home/" TargetMode="External"/><Relationship Id="rId10" Type="http://schemas.openxmlformats.org/officeDocument/2006/relationships/hyperlink" Target="http://www.trustedcomputinggroup.org/home/" TargetMode="External"/><Relationship Id="rId11" Type="http://schemas.openxmlformats.org/officeDocument/2006/relationships/hyperlink" Target="http://www.trustedcomputinggroup.org/home/" TargetMode="External"/><Relationship Id="rId12" Type="http://schemas.openxmlformats.org/officeDocument/2006/relationships/hyperlink" Target="http://www.trustedcomputinggroup.org/home/" TargetMode="External"/><Relationship Id="rId13" Type="http://schemas.openxmlformats.org/officeDocument/2006/relationships/hyperlink" Target="http://www.trustedcomputinggroup.org/home/" TargetMode="External"/><Relationship Id="rId14" Type="http://schemas.openxmlformats.org/officeDocument/2006/relationships/hyperlink" Target="http://www.sdmi.org/" TargetMode="External"/><Relationship Id="rId15" Type="http://schemas.openxmlformats.org/officeDocument/2006/relationships/hyperlink" Target="http://www.sdmi.org/" TargetMode="External"/><Relationship Id="rId16" Type="http://schemas.openxmlformats.org/officeDocument/2006/relationships/hyperlink" Target="http://www.sdmi.org/" TargetMode="External"/><Relationship Id="rId17" Type="http://schemas.openxmlformats.org/officeDocument/2006/relationships/hyperlink" Target="http://www.sdmi.org/" TargetMode="External"/><Relationship Id="rId18" Type="http://schemas.openxmlformats.org/officeDocument/2006/relationships/hyperlink" Target="http://www.sdmi.org/" TargetMode="External"/><Relationship Id="rId19" Type="http://schemas.openxmlformats.org/officeDocument/2006/relationships/hyperlink" Target="http://www.sdmi.org/" TargetMode="External"/><Relationship Id="rId20" Type="http://schemas.openxmlformats.org/officeDocument/2006/relationships/hyperlink" Target="http://www.sdmi.org/" TargetMode="External"/><Relationship Id="rId21" Type="http://schemas.openxmlformats.org/officeDocument/2006/relationships/hyperlink" Target="http://www.sdmi.org/" TargetMode="External"/><Relationship Id="rId2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gital Rights Manag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plomová prá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r Šv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8380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ARYKOVA UNIVERS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14600" y="12193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kulta Informati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867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rno 0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54100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ttp://www.svenda.com/petr/mst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ávěrečné shrnut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povány technické aspekty D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ozdělení klienta dle stupně užití HW ochran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eferenční DRM architek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chrana spustitelného progra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avrženo a implementováno ochranné rozhra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mplementován SecureFW (C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mplementován HWT (JavaCard, GXPPro-R3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ávrh protokolu SEA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mplementován WBACR AES generá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ávrh a implementace algoritmu pro generování WBACR AES vstupníh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tupního kódování pro C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ávrh robustní aktualizace klíče re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mplementována ukázková aplikace LightA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22860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ávěrečné shrnut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655308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Digital Rights Managment, Petr Švenda 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teratura, o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1]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senblatt, B. Trippe, B. Mooney, S.: Digital Rights Management: Bussines and Technology. Indianapolis,  Hungry Minds, Inc., listopad 2001, ISBN 0-7645-4889-1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2]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w, S., Eisen, P., Johnson, H., Oorschot, P.C.: White-Box Cryptography and an AES implementation. Cloakware Corporation, 2002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kument dostupný na URL 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http://206.191.60.52/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/>
              </a:rPr>
              <a:t>resources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3"/>
              </a:rPr>
              <a:t>/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4"/>
              </a:rPr>
              <a:t>pdf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5"/>
              </a:rPr>
              <a:t>/SAC2002-CW.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6"/>
              </a:rPr>
              <a:t>pdf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uben 200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Trusted Computing Group, 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7"/>
              </a:rPr>
              <a:t>http://www.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8"/>
              </a:rPr>
              <a:t>trustedcomputinggroup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9"/>
              </a:rPr>
              <a:t>.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0"/>
              </a:rPr>
              <a:t>org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1"/>
              </a:rPr>
              <a:t>/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2"/>
              </a:rPr>
              <a:t>home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3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4] Menezes, A., Oorschot, P., Vanstone, S.: Handbook of Applied Cryptography, CRC Press Inc. 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5]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 Music Digital Initiative, Specification Overview, Dokument dostupný na URL 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4"/>
              </a:rPr>
              <a:t>http://www.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5"/>
              </a:rPr>
              <a:t>sdmi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6"/>
              </a:rPr>
              <a:t>.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7"/>
              </a:rPr>
              <a:t>org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8"/>
              </a:rPr>
              <a:t>/port_device_spec_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9"/>
              </a:rPr>
              <a:t>overview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0"/>
              </a:rPr>
              <a:t>.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1"/>
              </a:rPr>
              <a:t>htm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únor 200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2860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era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655308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Digital Rights Managment, Petr Švenda 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řehl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780120" indent="-78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gital Rights Managment (DR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80120" indent="-78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ferenční DRM architektur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80120" indent="-78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chrana softwarového ag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80120" indent="-78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středí klienta dle použití ochranného 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80120" indent="-78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chranné rozhran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21760" indent="-682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yptografic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čipová kar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21760" indent="-682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BACR AE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21760" indent="-682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tokol SEA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21760" indent="-682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XML 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655308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Digital Rights Managment, Petr Švenda 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gital Rights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ráva práv k digitálním objektům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žnosti digitálního zprac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é obchodní mod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ízké počáteční náklad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stiky použit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oblémy prosaze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valit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nad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op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gislativa vs. technické prostřed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655308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Digital Rights Managment, Petr Švenda 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22860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. Digital Rights Mana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I. Referenční DRM architek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atový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icenční serv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s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ředí klie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R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RM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ftwarový age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RMC + DRM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655308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Digital Rights Managment, Petr Švenda 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22860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. Referenční DRM architek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DRMRefArch" descr=""/>
          <p:cNvPicPr/>
          <p:nvPr/>
        </p:nvPicPr>
        <p:blipFill>
          <a:blip r:embed="rId1"/>
          <a:stretch/>
        </p:blipFill>
        <p:spPr>
          <a:xfrm>
            <a:off x="3962520" y="2209680"/>
            <a:ext cx="487656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II. Ochrana softwarového agen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ákladní poj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ezpečné prostředí (vzhledem k chráněné informac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zavřený SW agent (interval uzavřenost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atick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ynamická inspek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íle útok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i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odifikace kódu a dat, ovlivnění komunik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dvržení identity klienta, hodnot systémových funkc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lasické techniky ochr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gistrační čísla, originální média, debuggery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22860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I. Ochrana softwarového ag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655308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Digital Rights Managment, Petr Švenda 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kročilé techniky ochr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lient-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itlivé operace na straně serveru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utentizace klient vs.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C + kryptografická čipová kar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ardwarové výpočetní prostřed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martcards, SDM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5]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TC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White-Box Attack Resistant AES (WBACR A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lementace šifrovací algoritmu AES pomocí předpočtených tabulek (pro daný klíč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dolná proti statické i dynamické inspek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22860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I. Ochrana softwarového age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655308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Digital Rights Managment, Petr Švenda 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lient_HW!DRMR" descr=""/>
          <p:cNvPicPr/>
          <p:nvPr/>
        </p:nvPicPr>
        <p:blipFill>
          <a:blip r:embed="rId1"/>
          <a:stretch/>
        </p:blipFill>
        <p:spPr>
          <a:xfrm>
            <a:off x="4800600" y="3657600"/>
            <a:ext cx="4114800" cy="16779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V. Prostředí klienta dle použití ochranného hard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 Nechráněné, čistě softwarov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ěžné P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) Hardwarově chráněn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ní konzole, SDMI, T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mocná HW ochr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MC i DRM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uze DRMC (projek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uze uložení vybraných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655308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Digital Rights Managment, Petr Švenda 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22860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V. Prostředí klienta dle použití ochranného hardw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V. Ochranné rozhraní (SecureFW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zpečný běh části kódu na čipové kart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adné začleně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tualizace pomocí XML lic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zdálená sprá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ílení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íce algorit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íce SW agent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SafeFrameworkOverview" descr=""/>
          <p:cNvPicPr/>
          <p:nvPr/>
        </p:nvPicPr>
        <p:blipFill>
          <a:blip r:embed="rId1"/>
          <a:stretch/>
        </p:blipFill>
        <p:spPr>
          <a:xfrm>
            <a:off x="4648320" y="4191120"/>
            <a:ext cx="4190760" cy="2282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4920" y="22860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. Ochranné rozhran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655308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Digital Rights Managment, Petr Švenda 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LightApp_safeAlgTab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6248160" cy="48182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Ukázková aplikace LightAp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22860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. Ochranné rozhran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655308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Digital Rights Managment, Petr Švenda 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5:41:35Z</dcterms:created>
  <dc:creator>Eskel</dc:creator>
  <dc:description/>
  <dc:language>en-US</dc:language>
  <cp:lastModifiedBy>Eskel</cp:lastModifiedBy>
  <dcterms:modified xsi:type="dcterms:W3CDTF">2004-08-27T13:14:07Z</dcterms:modified>
  <cp:revision>457</cp:revision>
  <dc:subject/>
  <dc:title>Digital Rights Managment</dc:title>
</cp:coreProperties>
</file>